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362C-BB15-47D9-A8DC-F950F85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0E8B-EE35-4326-8B62-BC3CB345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92CD-C0C4-47DA-9722-A9CD452C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B3FE-2F1D-428F-85C3-1BF453A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39DD-1497-46CB-99A6-58EDD907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5CAA-9502-4FB3-8B34-24042FA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43EF-CE03-4553-BFB7-2C433A7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A65E-C86A-47AE-9A3F-41A16D4A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8B1E-3300-4EF5-9E87-008AC5E2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D1A-7D95-459A-BEFE-670F3E8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933-E3A3-4738-8AD5-BD8B1C75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E043-5EEF-4D8E-92A6-57C9ED8C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09B-11A4-4EFE-A9FC-4C52266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26A-8223-4D6A-8C56-0811206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102-5C4C-405F-A7AE-4403039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A9D-788C-472E-9922-84401DE4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514E-E57F-4797-AFD4-75FADAA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D6C5-F0DE-49D6-B6FF-270A497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00FD-537F-43B2-BE5F-B09501D7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B76C-BB67-4FF2-AB3E-30A9919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3E41-89F9-4FF0-8D4C-411EA417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5A9E-6D35-4E71-B3E1-C09F303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F041-47AA-41B1-98D2-5477D74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0716-7FE3-4E12-99C4-ED64E5D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461C-2D27-4D0E-B3CE-8CB73090A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CA7A-0C92-458C-BA21-8BDB5306E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os de Jogos Estratégic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tipo de saque (tênis) será mais apropriado, com efeito ou forç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ais importante não é saber como deveria sacar, mas como não deveria. Ou seja, não se deveria sacar sempre da mesma 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dinha das notas da 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ema do prision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pude fazer o exame porque o pneu fur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 foi o pn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posso adiar a prova porque as regras não perm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sos cr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m vai ao super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m tiver a menor tolerância perde o jogo (jogo da galinha). Um jogo que exacerba o risco mútuo até alguém abri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orar em casas separadas ou se ca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nais estão sendo enviados com a minha decis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72560" y="1471680"/>
            <a:ext cx="588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Principal-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4620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90920" y="692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9092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90920" y="549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9092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90920" y="549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90920" y="40500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90920" y="40500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zir conceitos básicos sobre interação estratégica racional na análise de atores e instituições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escolha de como agir ou de qual estratégia seguir levar-se-á em consideração as escolhas dos outros jogadores. Entretanto, ao pensar na estratégia dos outros ‘jogadores’ é importante também reconhecer que eles também estão pensando na sua, bem como tentando levar em consideração como você pensa que eles irão ag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er a utilizar analiticamente as ferramentas do método r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isso não quero dizer que sempre as pessoas se comportam racionalmente; mas também não é verdade que sempre elas se comportam irracionalmente. Mesmo quando não estamos antecipando possíveis movimentos, isso também não quer dizer que estamos agindo de forma ir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90920" y="333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6240" y="4802040"/>
            <a:ext cx="91152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ros Grupos de Inter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809880"/>
            <a:ext cx="144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576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5105520"/>
            <a:ext cx="839880" cy="1440"/>
          </a:xfrm>
          <a:custGeom>
            <a:avLst/>
            <a:gdLst/>
            <a:ahLst/>
            <a:rect l="l" t="t" r="r" b="b"/>
            <a:pathLst>
              <a:path w="529" h="1">
                <a:moveTo>
                  <a:pt x="528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24040" y="405000"/>
            <a:ext cx="517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5105520"/>
            <a:ext cx="106812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3886200"/>
            <a:ext cx="1068480" cy="1220760"/>
          </a:xfrm>
          <a:custGeom>
            <a:avLst/>
            <a:gdLst/>
            <a:ahLst/>
            <a:rect l="l" t="t" r="r" b="b"/>
            <a:pathLst>
              <a:path w="673" h="769">
                <a:moveTo>
                  <a:pt x="672" y="0"/>
                </a:move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657600"/>
            <a:ext cx="1144440" cy="137304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principal-agente é relevante para analisar qualquer relação onde existem as seguintes cond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g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uma tarefa por um agente econômico a outro. Aquele que delega é conhecido como o principal e aquele que cumpre a tarefa em troca de uma remuneração é o agente. (Os acionistas de uma companhia, os principais, delegam a um gerente geral, o agente, a tarefa de presidir e fazer funcionar a companhi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ão ass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 agente possui certas informações sobre si mesmo e/ou sobre a tarefa que o principal não possui. Por exemplo, o agente sabe quanto esforço coloca para cumprir a tarefa. Já o principal não observa o esforço colocado e sim o resultado deste esforço. (O gerente sabe quais as escolhas que fez, quais deixou de fazer, quais as condições da companhia, dos concorrentes, etc. Os acionistas não possuem nem o tempo nem o capital humano para obter e processar todas estas informações. Eles observam não o esforço colocado pelo gerente mas sim o lucro obtido no final do mê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ção imperfeita entre o esforço colocado e o resultado do esforç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a hora de determinar a remuneração pelo cumprimento da tarefa o principal não pode usar o resultado obtido pelo agente para inferir qual o esforço colocado, pois não existe uma relação estreita entre ambos. (Ao observar um lucro alto, os acionistas não podem inferir disto que o gerente tomou todas as decisões corretas e geriu a empresa de maneira sábia, pois é possível que o gerente tenha agido de forma imprudente ou desleixada e mesmo assim obtivesse um lucro. Da mesma forma um lucro baixo pode se dar por contingências fora do controle do geren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 de monitoração al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O principal não tem como monitorar a baixo custo a performance do agente para poder observar o nível de esforço colocado.  (Mesmo que os acionistas façam reuniões mais freqüentes ou contratem auditores, o problema de informação assimétrica persis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s não alinh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Os objetivos do principal não coincidem inteiramente com os objetivos do agente. Se coincidirem exatamente a relação deixa de ser problemática pois então o agente estará agindo da maneira preferida pelo principal. (Os acionistas querem que o gerente aja de maneira a maximizar seu lucro sem tomar riscos desnecessários. O gerente quer maximizar sua própria renda e talvez possua também objetivos relacionados a sua carreira e seu poder na empresa. Os objetivos de ambos são somente parcialmente coincidentes pois ao perseguir seus objetivos próprios o gerente poderá estar levando a firma a um lucro menor do que o possíve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relação principal-agente será mutuamente vantajosa se puder ser estruturada de forma a contornar os problemas inerentes a este tipo de intercâm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tilidade do modelo principal-agente está justamente em salientar que muitas formas de relação entre agentes econômicos e políticos são estruturadas de maneira muito particular como meio de contornar os problemas de infor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a Teoria dos J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ar processos decisórios inte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um jogador pensa cuidadosamente antes de agir nos seus objetivos e preferências bem como sobre as possíveis limitações e restrições (pessoais e institucionais) e escolhe suas ações de uma maneira calculada para atingir os melhores resultados de acordo com o seu critério, nós chamamos isso de comportamento r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a dos jogos acrescenta mais uma dimensão ao comportamento racional: interação com um outro jogador igualmente r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seja, Teoria dos Jogos é a ciência do comportamento racional em situações intera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a forma, o comportamento do jogador seria estratégico, pois sua decisão terá conseqüências sobre os demais jogadores, assim como as decisões dos outros terão conseqüências sobre 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á que todos os jogos envolvem decisões estratégic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dizer dos jogos de pura sorte, como roleta, cara ou coroa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em relação aos jogos de habilidade, como por exemplo uma prova de salto em distância em uma olimpíada onde cada atleta deverá, a cada tentativa, se esforçar para obter o melhor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ão racional pressupõe interações estratégicas entre os jogadores. São estes jogos que nos interessam neste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ões e paradoxos abordados pela Teoria dos Jog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ria sentido pensar que um membro de uma comissão legislativa estaria realizando sua melhor estratégia votando a favor da alternativa de sua menor prefer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uma boa idéia decidir n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o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devo atacar hoje ou amanhã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a melhor opção para um jogador de Pôquer sempre apostar ao máximo mesmo diante de um jogo ruim nas suas mã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racional vender uma casa anunciando que o vencedor seria o que fizesse o maior lance, mas pagaria ‘apenas’ o segundo ma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o Estratégico (Regras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645000"/>
            <a:ext cx="1944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ou 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00360" y="3141720"/>
            <a:ext cx="719280" cy="503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4365720"/>
            <a:ext cx="9349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0880" y="3068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4160" y="4653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565360"/>
            <a:ext cx="2158920" cy="719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ou 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653000"/>
            <a:ext cx="21603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 ou 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2565360"/>
            <a:ext cx="1009800" cy="21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14172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84720" y="4365720"/>
            <a:ext cx="107964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5157720"/>
            <a:ext cx="115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8036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o Estratégico (Preferências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s da Teoria dos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a racionalidade fal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quivo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r informações que apenas confirmem nossas expectativas de su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shful thin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Ex. Apaixonados que só buscam apenas a virtude dos seus parcei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sem pensar (emocional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sem buscar melhores alternativas (tradi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baseado em valores (imperativo ético, religioso ou polí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ituições mal desenhadas que induzem ao erro (ausência de mecanismos de incentivo ao desempen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nde vem a Teoria dos Jog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criada por Von Neumann e Morgenstern com o livro clássico “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he Theory of Games and Economic Behav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”, publicado em 194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e livro criou muita repercussão bem como muita frustração, polis apenas analisava os jogos de “soma-zero” onde os interesses dos jogadores são diametralmente opostos. Ou seja, não se aplicava a outras situações e interações. Na realidade este foi o primeiro esforço de um longo percurs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hn Nash, John Harsanyi e Reinhard Selten a partir de 1950 desenvolveram as ferramentas analíticas para a aplicação em ouros tipos de interações (Eles ganharam o prêmio Nobel em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quilíbrio de Nash é aquele que resulta se cada jogador adotar a estratégia que é a melhor resposta às estratégias dos demais jogadores, Por isso, não se restringia a apenas jogos de soma-zero. Foi a partir desta noção de equilíbrio de Nash que foi possível demonstrar que nem sempre a escolha racional (a melhor em relação as estratégias dos demais jogadores) pode levar ao melhor resultado para to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arsanyi posteriormente desenvolveu o conceito de informação assimétrica que produzia incerteza para os agentes decorrentes desta assimetria. Antes os modelos assumiam a informação compl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lten refinou a noção de equilíbrio que ficou conhecido como “equilíbrio perfeito em sub-jogos”, ao afirmar que para uma estratégia estar em equilíbrio tem que ser ótima considerando todos os desdobramentos do jogo. A partir desta restrição do equilibro de Nash pode-se identificar  quais compromissos e ameaças são críve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4:22:48Z</dcterms:created>
  <dc:creator>Carlos Pereira</dc:creator>
  <dc:description/>
  <dc:language>en-US</dc:language>
  <cp:lastModifiedBy>Carlos Pereira</cp:lastModifiedBy>
  <dcterms:modified xsi:type="dcterms:W3CDTF">2004-08-04T15:26:29Z</dcterms:modified>
  <cp:revision>15</cp:revision>
  <dc:subject/>
  <dc:title>Escolha Social, Estratégia e Racionalidade:  Uma Introdução à Teoria dos Jogos na Polít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090622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Curso Teoria dos Jogos</vt:lpwstr>
  </property>
</Properties>
</file>